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812CA-B533-44EA-B658-76113935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67D1A-940B-43D2-99E2-8A74AE0C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E3358-0AE4-47A1-BEB8-1FFCA6E0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2388A-8E2F-4D55-8728-51D9C897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FC8A-7F7F-4EAA-B9B8-962CB16A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3C8C-208D-47E8-9D23-F537E273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3F31-736C-43F7-97ED-4B3E629A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9F00-64CE-4068-A554-06E8D354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B016-28D8-4F75-9857-FAF66F0F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56D0-02EF-4030-94B3-1C2CDBC7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9599-6F7C-4AD0-8062-7ADAEF4F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F5CC7-9D99-4963-8277-26206FA5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8BFD-7DBD-450E-B7E2-513C6E6B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AA9A-DF99-4DC3-B8F4-9A427E21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A6D5-9F85-4CF8-AB4B-CF1C9122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59FA-D7EB-49B8-80E1-0508E8D5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9158-4961-465F-96C4-D0A415D0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974B7-9D78-40D8-85C3-B3A0530D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1554-684F-4DC1-AA64-AB1D783E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6EDDE-27A9-4E43-B71B-751BF0D3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73BB2-20A2-4C84-A15C-D35C0402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ED5E-46C1-4AAE-8C99-8562D747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AABF8-C203-43D3-94C3-ACA2B0EA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02A8-33AB-499B-A6DE-6B301BDC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ant Grove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F8FF-D3F3-4501-A65B-EE093D9B8F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&lt;date/time&gt;</a:t>
            </a: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&lt;date/time&gt;</a:t>
            </a: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ant Grove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B79F-A5E2-4D1E-9872-8C5BD70562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Operating System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uter Techn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 (Graphical User Interfa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e of user interface that features on-screen objects, such as menus and icons, manipulated by a m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reviation is pronounced “gooe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detailed, step-by-step instructions that tell a computer how to solve a problem or carry out a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computer programs that help a person carry out a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cation on a network that is set aside for the collection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directory or subdivision, of a drive that can contain files or other fol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med collection of data that exists on a storage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5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ons, June Jamrich, and Dan Oja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uter Concep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Boston: Course Technology - Thompson Learning, 200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4067280" cy="4190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neration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vacuum tub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uum tubes are electronic devices that control the flow of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no operating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custom application programs, which were made for the specific task that the computer was to per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s were necessary for every aspect of the computing jo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3386160" cy="23778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eneration compute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ransis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stors performed functions similar to vacuum tubes, but they were smaller, cheaper, less power-hungry, and more rel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 programming language compil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English like commands rather than binary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it possible to develop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2472" r="0" b="6118"/>
          <a:stretch/>
        </p:blipFill>
        <p:spPr>
          <a:xfrm>
            <a:off x="5203800" y="2314440"/>
            <a:ext cx="2925720" cy="32194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neration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tegrated circ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computers were int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and less powerful than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puters, but had the ability to run multiple programs for multiple users simultaneous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4281480" cy="2711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neration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general-purpose microprocess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ystems were smaller, faster, and less expensive tha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pu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245120" cy="23958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ng System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controller for all activities that take place within a computer; primary purpose is to help the computer system monitor itself in order to function effici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s with application software, device drivers, and hardware to manage a computer’s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that input and output proceed in an orderly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ying hardware and software of the computer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opular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tas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more than one program at a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sure that the instructions and data from one area of memory don’t interfere with memory allocated for other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6:13:29Z</dcterms:created>
  <dc:creator>Michelle Guymon</dc:creator>
  <dc:description/>
  <dc:language>en-US</dc:language>
  <cp:lastModifiedBy>TMS</cp:lastModifiedBy>
  <dcterms:modified xsi:type="dcterms:W3CDTF">2004-11-03T19:21:37Z</dcterms:modified>
  <cp:revision>27</cp:revision>
  <dc:subject/>
  <dc:title>Operating Systems</dc:title>
</cp:coreProperties>
</file>